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F526-1732-407E-9A7B-DBFBA4C31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403D147-7B0B-4C18-AE8A-6F6BCCDF0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ain, not a student solu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D3C-8C00-42E4-B754-9BAFD7DB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A92-3298-4798-9B66-B6F670DC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9EC-7985-41D6-8588-E3AE9042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A32-9BF6-4A9C-8116-7D099F2B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8EC6-2E5F-4ED3-A352-19D92240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3242-933B-4BF6-B00D-F5D7171F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E579-9512-4093-97A4-073B33C9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50E8-ACE1-49C8-95A9-95820C18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9A4C-5842-4FF4-AED1-1D76D49F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E75C-4308-456E-B185-BAC6C85C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30FF-DFF2-41B9-8906-7895322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A53-5F62-449E-A28E-44B2281B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F026-F311-44DB-8E78-19CD40B8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4830-7500-4F07-BF24-AE95E8FB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8F00-D423-45F1-8F51-E53BBEDA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34A1-85F9-41D4-A542-3A20AEC4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79CD-BC11-49CC-B36A-3B918987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6CE-D5FA-4CD7-A662-5FCE8D2A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242-529A-40F9-A73F-6F57772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0D6-6669-4FB7-9F1E-096F3BA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484-C5DC-484D-9C0F-7BEC2030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7FE-BB9B-4564-8D72-4BA4AFE4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38D-15E6-4B12-870B-6198DC52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74C-0E2E-477C-9698-1A347A1B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4B1B-E874-4C17-9B88-6354765E58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9FC9-488C-45D3-B9F9-86A43E0F41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Grades 7/8 Breakout Session 2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ds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verview of coaching mode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sson reconstruc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riencing the three part less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ing Powerful Questions Templat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1574640"/>
            <a:ext cx="66592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provided curriculum expectations, Big Ideas, lesson goals, and consolidating questions match the lesson components to create two different proportional reasoning less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 prepared to discuss your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role for the next hour:  Experiencing a math lesson while thinking critically about the math lesson design (Big Ideas, expectations, lesson goals, and consolidating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representations: Using a variety of tools and strategies represent the proportional number assigned to your group in at least five different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lery Wal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cereal bar problem using a variety of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various models and representations allow students to see connections between concep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lgebraic Represent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620120" cy="5213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2120" y="2743200"/>
            <a:ext cx="7162560" cy="38088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group: Completing the Posing Powerful Questions Template as a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7T16:05:53Z</dcterms:modified>
  <cp:revision>135</cp:revision>
  <dc:subject/>
  <dc:title>Slide 1</dc:title>
</cp:coreProperties>
</file>